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E17-135E-44FD-88E8-865C9DD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C67-EEB2-4E8D-95DD-65EB6C05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ACE-7381-49D3-9C75-F95468B6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508-C736-422F-B5BE-69168F6B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E71-C1BB-49A4-A981-59B08C7D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381-2D02-495B-A73A-87B48D5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86-07F6-4B01-91AE-F9565C3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B98-13A0-423B-9BD3-790464F1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63F-C87A-4964-A460-91FA246F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5C9-CA2C-492D-9DA1-303C2B8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EE3-C57D-4710-8F3C-3A155B7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1E4-0DA6-452E-9553-26CBD24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D23-BA36-468A-A819-14AB4683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7374240" cy="5592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Outstanding open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516280"/>
            <a:ext cx="640080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vary my sentence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69800">
            <a:off x="610920" y="260280"/>
            <a:ext cx="2647800" cy="19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conn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Tom waited, the bus c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they had their dinner, they at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your menu has some healthy items, many are not good for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spite, When, Even though, Because, However, 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oper Black"/>
              </a:rPr>
              <a:t>Use an adverb – an ‘ed’ or ‘l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948600">
            <a:off x="5364000" y="3992040"/>
            <a:ext cx="3780000" cy="2865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120" y="136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9080" y="1604880"/>
            <a:ext cx="773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tonishingly, the bus arrive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fortunately, I cannot make it to your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utiously, she removed the band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320" y="496080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adly, Crazily, Disappointing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gretfully, Steadily, Happi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lowly, Mournfully, Grac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simile or 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a mouse, he tiptoed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ve lions, they stepped into b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wift as a bird, she glided through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82800">
            <a:off x="344160" y="4005360"/>
            <a:ext cx="3483000" cy="274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noun or ad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bwebs spanned the corr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fell as the wind bl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utiful stars filled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948600">
            <a:off x="4642920" y="2637000"/>
            <a:ext cx="4038840" cy="306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fe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ely, she walked the corr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ated, he jumped f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alous, she tore up his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gry, they fought for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948600">
            <a:off x="6156000" y="764640"/>
            <a:ext cx="2784600" cy="2111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79800" y="3376440"/>
            <a:ext cx="2184840" cy="3080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vasta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Unhapp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ligh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Melancho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Exci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Amb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Use a verb – an ‘ing’ c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ggling and laughing, they ran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ing for the others, Jade stared up at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948600">
            <a:off x="4500360" y="379728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9:32:32Z</dcterms:created>
  <dc:creator>Sony</dc:creator>
  <dc:description/>
  <dc:language>en-US</dc:language>
  <cp:lastModifiedBy>Sony</cp:lastModifiedBy>
  <dcterms:modified xsi:type="dcterms:W3CDTF">2008-11-27T20:01:17Z</dcterms:modified>
  <cp:revision>3</cp:revision>
  <dc:subject/>
  <dc:title>Outstanding openers!</dc:title>
</cp:coreProperties>
</file>